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695-C514-46E6-9A35-A58D9B25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A4B-1CD0-4289-9EB0-052D6F98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737-512B-4AD4-B8D7-617CF2B8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A07-0D98-4DB9-94DF-59DF7996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697C-5137-4F64-92F7-B9C460DB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6C71-D1F8-498C-ACE7-61C3538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CD7-B6D1-4BEA-8D20-B78AA936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64FB-CBC4-428C-B1A1-8E65FCAB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81E5-4FCA-4214-BB3D-ED296BC2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6F6E-0CC6-43EE-AD27-6858AA3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68A-1138-4FAD-BBE2-EAB012B4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5D4-874C-4C39-87E6-DB7047CD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EE9-E3C3-479D-9F3F-E4B243C5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0FA-2E18-4758-B683-E406F31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FC98-2BC2-4E30-94E0-E2936932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783-F40D-4B1F-9849-ED6749B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1CD-38FB-4445-85B5-A8D4CD48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E86-66B1-4CDD-9F3D-2E16027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8C3-20C0-4DA6-974D-25016A4F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405-38E6-46F3-910B-24CAE9E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D79-3A05-48F4-9C51-871CCBCD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EC6-6975-4E39-AB70-317D864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6CC-CBBE-4FF9-A442-4A97CD6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05A-9FDC-4147-B67E-278CDD7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726E-D071-4654-97FE-049A8F33B5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6EB-05A0-41EF-9873-F3F2566216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Sistemas distribuidos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y de tiempo real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 – Introducción a los sistemas distribui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1600" y="3325680"/>
            <a:ext cx="3005280" cy="260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860640"/>
            <a:ext cx="2933640" cy="179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1040" y="1628640"/>
            <a:ext cx="67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de igual a igu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últiples nodos sin un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ún mecanismo mediante el que un nodo encuentre a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nodos a veces actúa de clientes y otras veces de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32120" y="6093000"/>
            <a:ext cx="7524720" cy="300600"/>
            <a:chOff x="1032120" y="6093000"/>
            <a:chExt cx="7524720" cy="300600"/>
          </a:xfrm>
        </p:grpSpPr>
        <p:sp>
          <p:nvSpPr>
            <p:cNvPr id="149" name=""/>
            <p:cNvSpPr/>
            <p:nvPr/>
          </p:nvSpPr>
          <p:spPr>
            <a:xfrm>
              <a:off x="1032120" y="6093000"/>
              <a:ext cx="75247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la arquitectura P2P un mismo nodo puede ser a la vez cliente de unos nodos y servidor de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4560" y="61084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63626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3262320"/>
            <a:ext cx="6120000" cy="297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7760" y="1639800"/>
            <a:ext cx="88128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130480" y="1784520"/>
            <a:ext cx="151272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86120" y="1712880"/>
            <a:ext cx="1513080" cy="1155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442120" y="1784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589800" y="16398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029440" y="1911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692360" y="3637080"/>
            <a:ext cx="575928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independientes que se presenta al usuario como un sistema único y consistente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Tanembaum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autónomos interconectados a través de una red de ordenadores y equipados con software que permita compartir los recursos del sistema, hardware, software y datos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Colouris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 práct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oogle In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9900"/>
                </a:solidFill>
                <a:latin typeface="Garamond"/>
              </a:rPr>
              <a:t>Google Search (Motor de búsqueda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yecto estudiantes Universidad de Stanf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s de ordenación con I.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utilizan servidores sino PC’s enlaz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 de consu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97200" y="5950080"/>
            <a:ext cx="2819520" cy="87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27640" y="5127480"/>
            <a:ext cx="144792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3209760"/>
            <a:ext cx="3810240" cy="20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06600" y="5184720"/>
            <a:ext cx="90504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4960" y="182880"/>
            <a:ext cx="90100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Arquitectura de los 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165528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iente / Servidor [Client / Serv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realiza peticiones a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la primera y la más básica de todas las arquitecturas distribu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rquitectura de N-capas [N-Ti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ace por desventajas de la arquitectura cliente /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/Servidor =&gt; Arquitectura de do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ucione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una única capa servidora más pot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vidir la capa servidora en 2 o má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5520" y="2054160"/>
            <a:ext cx="2354040" cy="29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8520" y="5149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35480" y="1989000"/>
            <a:ext cx="3440160" cy="258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62520" y="486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42920" y="3213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4880" y="2637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716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3440" y="3736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4720" cy="1892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64072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2492280"/>
            <a:ext cx="2049480" cy="153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03640" y="3500280"/>
            <a:ext cx="2448000" cy="181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042920" y="1498680"/>
            <a:ext cx="6842160" cy="495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276720" y="2276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1173240" cy="156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628640"/>
            <a:ext cx="324144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63640" y="40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450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77080" y="33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7080" y="4816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l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22720" y="19368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2520" y="198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6160" y="465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628640"/>
            <a:ext cx="194292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1628640"/>
            <a:ext cx="223056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1800" y="602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2880" y="602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7240" y="60930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12944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8000" y="5084640"/>
            <a:ext cx="7695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a uno de estos elementos, pueden instalarse en un computador distinto si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tilización es muy alta (una elevada utilizació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us tiempos de respuesta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y elev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720" y="157644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típico en computación, n = 3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2240" y="669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1569600"/>
            <a:ext cx="845964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ción de funciones del servidor entr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últip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migrar capas a otro computador para escalar el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menta la flexibilidad en desarrollo (cada capa en un lengu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365720"/>
            <a:ext cx="84600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hay una relación establecida ti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estro/Escl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umidor/Pro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1:55:23Z</dcterms:created>
  <dc:creator>Iván Peteira Otero</dc:creator>
  <dc:description/>
  <dc:language>en-US</dc:language>
  <cp:lastModifiedBy>Iván Peteira</cp:lastModifiedBy>
  <dcterms:modified xsi:type="dcterms:W3CDTF">2008-10-08T20:50:12Z</dcterms:modified>
  <cp:revision>14</cp:revision>
  <dc:subject/>
  <dc:title>Sistemas distribuidos  y de tiempo real</dc:title>
</cp:coreProperties>
</file>