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8F5F-5BFD-4AB4-9DB2-391E323F9E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ción de practicas en las convocatorias oficiales supone , además de entregar las ampliaciones y demás que se pueden pedir realizar in situ modificaciones de las mis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la asignatura, apuntes de teoría, práctica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0E4-E4E8-4BBD-A150-CA62B337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137-A43F-4E03-A2D3-AFD664E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9D6-CA07-475B-B057-7E6231AD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7FF-C4BF-48C1-9AA1-BC864BB3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101-7AA9-488D-8211-262F98B5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FF9F-8F33-4BA2-B3F0-07E19FCB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C66C-A1E1-4ADB-8ACD-CF33F41F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9573-C802-4127-BB7A-6D14B1B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7346-AE69-4608-8AEC-7E82E7C2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35C5-C105-44E9-BC58-39FB2E09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4D9-61CA-40CD-8FC4-53EE8183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34D-F5F2-4724-9CE0-14B5A3A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D477-30B1-4799-A640-91D10545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21D-9506-4E3F-89E7-D25A949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1C97-2C85-4893-B147-BB6628F4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99A3-2AB0-45BE-A02A-DC81D89C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5922-B852-4420-895A-13C5B644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2D2-091D-4319-AAE3-ECF4552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DA6-0173-4AD6-B2DB-9794AD93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729-1728-4081-A3D4-1B359F1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23A-6FB5-40F4-9152-238AA29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F0A-BEE1-406D-9A2D-06D78C2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0F4-885D-4133-A0F6-AA04CB0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CFD-69E1-4FA3-B7FB-6F65ED5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B48-9691-4A8D-965E-8813453364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272-2EFE-4C75-8841-D086BFB523E5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tc.uniovi.es/teleco/5sdtr/index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c.uniovi.es/personal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00880" y="1125360"/>
            <a:ext cx="1138320" cy="12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4000" y="579960"/>
            <a:ext cx="6573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421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900" spc="-1" strike="noStrike">
                <a:solidFill>
                  <a:srgbClr val="420000"/>
                </a:solidFill>
                <a:latin typeface="Arial"/>
              </a:rPr>
              <a:t>¿Dudas, comentarios…?</a:t>
            </a:r>
            <a:endParaRPr b="0" lang="en-US" sz="49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308720" y="765000"/>
            <a:ext cx="1590840" cy="181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62560" y="1471680"/>
            <a:ext cx="749520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770520" y="4484520"/>
            <a:ext cx="2373480" cy="2373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asignatur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artamento de Informát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Área de Arquitectura y Tecnología de Com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trimestral (Febrero – Jun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6 créditos (3 teoría + 3 práct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 horas teoría + 2 horas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teor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Profesor</a:t>
            </a:r>
            <a:r>
              <a:rPr b="0" lang="es-E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án Peteira O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ías: E-mail antes de acu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itos 2.6.16 (2ª planta. Módulo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éfono 98 518 25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peteira@uniovi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Horari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618" b="0"/>
          <a:stretch/>
        </p:blipFill>
        <p:spPr>
          <a:xfrm>
            <a:off x="1476360" y="2674800"/>
            <a:ext cx="5832360" cy="133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4797360"/>
            <a:ext cx="5616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ntrega periódica de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itualmente 4/5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echa de entrega es INAMOVIBLE (salvo circunstancia espe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presentación de todas las prácticas y/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pliaciones o nuevas 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nvocatorias oficiales con defensa de las mi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examen te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cada práctica se suele entregar una memoria y el código de dicha práctica. La nota obtenida en cada práctica será una nota num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sta de una serie de requisitos mínimos que hay que cumplir para aprobar esa práctica. En este caso, si todo es correcto, la nota será de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llevará una serie de ampliaciones opcionales que en caso de ser realizadas de forma correcta determinarán la nota final en esa práctica [7..10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alguna práctica no cumple con los requisitos mínimos, el alumno/a dispondrá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semana desde la entrega de la práctica por parte del profes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hacer los cambios necesarios y poder aprobar así la práctica. En este caso la nota máxima a la que puede aspirar el alumno es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ta final, será la media aritmética del conjunto de las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Material de teoría y práctic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onibles transparencias de clase en la web. Se dejarán con anterioridad para poder asistir con ellas 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uiones de prácticas disponible en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Necesario dejarlo en fotocopiad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f0ff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atc.uniovi.es/teleco/5sdtr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oc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geniería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s Distribuidos y de T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atc.uniovi.es/persona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25:54Z</dcterms:created>
  <dc:creator>Iván Peteira Otero</dc:creator>
  <dc:description/>
  <dc:language>en-US</dc:language>
  <cp:lastModifiedBy>Iván Peteira</cp:lastModifiedBy>
  <dcterms:modified xsi:type="dcterms:W3CDTF">2008-10-01T18:51:27Z</dcterms:modified>
  <cp:revision>27</cp:revision>
  <dc:subject/>
  <dc:title>Presentación SDTR</dc:title>
</cp:coreProperties>
</file>