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3584-E6E9-49CB-BA77-7888D27E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8E62-E074-45C2-913B-C9F8D18D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118-8866-48C3-BBFF-2E6FED41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625-31B1-4FDC-8AE6-3B31EAE8C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B92D-43FC-4F1B-84D4-5D7948DD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B2BD-BCF0-45E1-8FD1-040F2EFB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1D17-3104-45C3-8702-432B82E3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2177-19AC-4A04-9FBA-AF8B6884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0F6E-68D6-4E3E-A13C-A2919424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0C14-FCBF-4E2E-BF1B-ED816077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0CFC-823C-4686-B44E-2261EB2C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C034-F435-468C-AD8C-7EB10130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F290-99C8-40D1-ADF3-7351C937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151A-F314-412F-9E96-146835E3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B436-0341-4297-8DEE-E7A141A2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8C51-64C0-4AA4-9C0B-2BD5CE7F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4218-8857-49E0-AA0A-E8D79FC9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FC9-0566-490F-8305-EDCAEA2E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D9D-4C8A-443E-BAAF-C9B811FB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3A0-0115-4BB5-849E-0EB48D86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6835-3A90-4FBB-A402-628DA9B4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8E8F-A5E9-42F5-80ED-3B0A1446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1F41-3490-4C39-AB89-8DCB15FE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C17B-20C4-4405-95FF-31C1956D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0E86-289D-4119-B79C-850F4B1B1F3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FD1A-55C6-4BAC-AF27-A53AC01AD5A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Garamond"/>
              </a:rPr>
              <a:t>Sistemas distribuidos </a:t>
            </a:r>
            <a:br>
              <a:rPr sz="5200"/>
            </a:br>
            <a:r>
              <a:rPr b="1" lang="en-US" sz="5200" spc="-1" strike="noStrike">
                <a:solidFill>
                  <a:srgbClr val="000000"/>
                </a:solidFill>
                <a:latin typeface="Garamond"/>
              </a:rPr>
              <a:t>y de tiempo real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0 – Introducción a los sistemas distribui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535320" y="3272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Arquitectura peer to peer (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71600" y="3325680"/>
            <a:ext cx="3005280" cy="2603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580000" y="3860640"/>
            <a:ext cx="2933640" cy="1791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61040" y="1628640"/>
            <a:ext cx="678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quitectura de igual a igu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últiples nodos sin un servidor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ún mecanismo mediante el que un nodo encuentre a o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 nodos a veces actúa de clientes y otras veces de servi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032120" y="6093000"/>
            <a:ext cx="7524720" cy="300600"/>
            <a:chOff x="1032120" y="6093000"/>
            <a:chExt cx="7524720" cy="300600"/>
          </a:xfrm>
        </p:grpSpPr>
        <p:sp>
          <p:nvSpPr>
            <p:cNvPr id="149" name=""/>
            <p:cNvSpPr/>
            <p:nvPr/>
          </p:nvSpPr>
          <p:spPr>
            <a:xfrm>
              <a:off x="1032120" y="6093000"/>
              <a:ext cx="752472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En la arquitectura P2P un mismo nodo puede ser a la vez cliente de unos nodos y servidor de otr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14560" y="6108480"/>
              <a:ext cx="741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14560" y="6362640"/>
              <a:ext cx="741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535320" y="32724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Arquitectura peer to peer (I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3262320"/>
            <a:ext cx="6120000" cy="2975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977760" y="1639800"/>
            <a:ext cx="881280" cy="1152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130480" y="1784520"/>
            <a:ext cx="1512720" cy="1000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786120" y="1712880"/>
            <a:ext cx="1513080" cy="1155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5442120" y="17845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6589800" y="163980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029440" y="19112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>
            <a:off x="1692360" y="3637080"/>
            <a:ext cx="5759280" cy="238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6672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finició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lección de computadores independientes que se presenta al usuario como un sistema único y consistente </a:t>
            </a:r>
            <a:r>
              <a:rPr b="0" lang="es-ES" sz="2400" spc="-1" strike="noStrike">
                <a:solidFill>
                  <a:srgbClr val="666600"/>
                </a:solidFill>
                <a:latin typeface="Verdana"/>
              </a:rPr>
              <a:t>[Tanembaum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lección de computadores autónomos interconectados a través de una red de ordenadores y equipados con software que permita compartir los recursos del sistema, hardware, software y datos </a:t>
            </a:r>
            <a:r>
              <a:rPr b="0" lang="es-ES" sz="2400" spc="-1" strike="noStrike">
                <a:solidFill>
                  <a:srgbClr val="666600"/>
                </a:solidFill>
                <a:latin typeface="Verdana"/>
              </a:rPr>
              <a:t>[Colouris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jemplo práct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Google In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9900"/>
                </a:solidFill>
                <a:latin typeface="Garamond"/>
              </a:rPr>
              <a:t>Google Search (Motor de búsqueda)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yecto estudiantes Universidad de Stanfo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lgoritmos de ordenación con I.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utilizan servidores sino PC’s enlaz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jemplo de consul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97200" y="5950080"/>
            <a:ext cx="2819520" cy="876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227640" y="5127480"/>
            <a:ext cx="1447920" cy="10382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132000" y="3209760"/>
            <a:ext cx="3810240" cy="2019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306600" y="5184720"/>
            <a:ext cx="905040" cy="112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4960" y="182880"/>
            <a:ext cx="90100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   </a:t>
            </a: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Arquitectura de los sistemas distribuido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560" y="1655280"/>
            <a:ext cx="88930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liente / Servidor [Client / Server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iente realiza peticiones a servi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 la primera y la más básica de todas las arquitecturas distribui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rquitectura de N-capas [N-Tier]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ace por desventajas de la arquitectura cliente / servi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iente /Servidor =&gt; Arquitectura de dos cap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oluciones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Usar una única capa servidora más pot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vidir la capa servidora en 2 o más cap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rquitectura Cliente – Servidor (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5520" y="2054160"/>
            <a:ext cx="2354040" cy="2951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118520" y="51498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235480" y="1989000"/>
            <a:ext cx="3440160" cy="2581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662520" y="4862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842920" y="321300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4880" y="26370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i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371628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03440" y="37368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rquitectura Cliente – Servidor (I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624720" cy="1892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8640720" cy="18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32720" y="2492280"/>
            <a:ext cx="2049480" cy="1536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rquitectura de n capas (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1619280" cy="2160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203640" y="3500280"/>
            <a:ext cx="2448000" cy="1811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1042920" y="1498680"/>
            <a:ext cx="6842160" cy="4954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276720" y="2276640"/>
            <a:ext cx="1904760" cy="7617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6516720" y="1700280"/>
            <a:ext cx="1173240" cy="1563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40000" y="26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263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843280" y="1628640"/>
            <a:ext cx="3241440" cy="4248360"/>
          </a:xfrm>
          <a:prstGeom prst="rect">
            <a:avLst/>
          </a:prstGeom>
          <a:noFill/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4724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763640" y="4076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6000" y="450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877080" y="3357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27080" y="48164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ele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22720" y="19368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22520" y="19890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6160" y="4653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628640"/>
            <a:ext cx="1942920" cy="4248360"/>
          </a:xfrm>
          <a:prstGeom prst="rect">
            <a:avLst/>
          </a:prstGeom>
          <a:noFill/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73800" y="1628640"/>
            <a:ext cx="2230560" cy="4248360"/>
          </a:xfrm>
          <a:prstGeom prst="rect">
            <a:avLst/>
          </a:prstGeom>
          <a:noFill/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1800" y="6021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82880" y="602136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47240" y="609300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s bás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12640" y="333360"/>
            <a:ext cx="8118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rquitectura de n capas (I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129440" cy="2667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28000" y="5084640"/>
            <a:ext cx="769572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da uno de estos elementos, pueden instalarse en un computador distinto si 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tilización es muy alta (una elevada utilizació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sus tiempos de respuesta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y elev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38720" y="1576440"/>
            <a:ext cx="43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o típico en computación, n = 3 c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62240" y="66960"/>
            <a:ext cx="8095680" cy="123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rquitectura de n capas (II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1569600"/>
            <a:ext cx="8459640" cy="20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tribución de funciones del servidor entr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últip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roceso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mite migrar capas a otro computador para escalar el servi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menta la flexibilidad en desarrollo (cada capa en un lenguaj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4365720"/>
            <a:ext cx="846000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SVENT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empre hay una relación establecida tip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lient/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estro/Escla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sumidor/Pro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21:55:23Z</dcterms:created>
  <dc:creator>Iván Peteira Otero</dc:creator>
  <dc:description/>
  <dc:language>en-US</dc:language>
  <cp:lastModifiedBy>Iván Peteira</cp:lastModifiedBy>
  <dcterms:modified xsi:type="dcterms:W3CDTF">2008-10-08T20:50:12Z</dcterms:modified>
  <cp:revision>14</cp:revision>
  <dc:subject/>
  <dc:title>Sistemas distribuidos  y de tiempo real</dc:title>
</cp:coreProperties>
</file>