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0" y="86104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74CE-06F9-4688-BD15-AAD56DA8013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sentación de practicas en las convocatorias oficiales supone , además de entregar las ampliaciones y demás que se pueden pedir realizar in situ modificaciones de las mis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la asignatura, apuntes de teoría, práctica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9C10-1D3F-4055-8CAE-65681CEE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91F2-73DE-45CD-86DC-6B1C3614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5098-4519-4D77-9588-54374697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DC07-FEE7-4DBE-95C0-B3D15B51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7BB8-D118-4C65-8741-62DAC323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6FF4-6A4C-4E1C-849F-42074425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F4C1-7EAC-4E9D-ACB0-62F29C88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7FA0-3B16-415D-8C70-2D6459C8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5FD9-9EE0-4F6A-87CD-B309ACA3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395C-A467-42D4-9CDF-D02BA089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37F4-9184-4B51-A967-E1AC5FBB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AB65-4755-4D5F-AC9C-609920A6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D20A-A5A6-4E97-AADA-1AA30DA0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4100-657F-42A8-89A2-112ED7DD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BA3D-AC96-41D6-A810-C279AA7B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8095-8926-4BCA-B5A2-07960A9C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8BE0-B583-403B-8513-DEB1FC29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5AFF-7EB4-4EF2-AB4F-7955947D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4B31-7511-4D4A-B344-FCADFB01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5098-3113-4515-BDC3-B7968641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186-A948-4F3B-8444-F852436F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1455-C6DB-43F3-AF1E-8EF76656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F847-584D-4CDF-B6C4-50244B45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1AE-9084-4BA4-832D-9897FE2E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9145-EF80-41A1-BA59-3A1C21F447F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83CC-D42B-4D83-B10A-54D3CEEB70A9}" type="slidenum">
              <a:rPr b="1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tc.uniovi.es/teleco/5sdtr/index.html" TargetMode="External"/><Relationship Id="rId2" Type="http://schemas.openxmlformats.org/officeDocument/2006/relationships/hyperlink" Target="http://www.atc.uniovi.es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tc.uniovi.es/personal.html" TargetMode="External"/><Relationship Id="rId2" Type="http://schemas.openxmlformats.org/officeDocument/2006/relationships/hyperlink" Target="http://www.atc.uniovi.es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268360" y="4471920"/>
            <a:ext cx="4681800" cy="2386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7400880" y="1125360"/>
            <a:ext cx="1138320" cy="129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774000" y="579960"/>
            <a:ext cx="65736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420000"/>
                </a:solidFill>
                <a:latin typeface="Arial Narrow"/>
              </a:rPr>
              <a:t>Sistemas distribuidos y </a:t>
            </a:r>
            <a:br>
              <a:rPr sz="4800"/>
            </a:br>
            <a:r>
              <a:rPr b="1" lang="es-ES" sz="4800" spc="-1" strike="noStrike">
                <a:solidFill>
                  <a:srgbClr val="420000"/>
                </a:solidFill>
                <a:latin typeface="Arial Narrow"/>
              </a:rPr>
              <a:t>de tiempo real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geniería de Tele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s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560" y="2421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900" spc="-1" strike="noStrike">
                <a:solidFill>
                  <a:srgbClr val="420000"/>
                </a:solidFill>
                <a:latin typeface="Arial"/>
              </a:rPr>
              <a:t>¿Dudas, comentarios…?</a:t>
            </a:r>
            <a:endParaRPr b="0" lang="en-US" sz="49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268360" y="4471920"/>
            <a:ext cx="4681800" cy="2386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7308720" y="765000"/>
            <a:ext cx="1590840" cy="1811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862560" y="1471680"/>
            <a:ext cx="749520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20000"/>
                </a:solidFill>
                <a:latin typeface="Arial Narrow"/>
              </a:rPr>
              <a:t>Sistemas distribuidos y </a:t>
            </a:r>
            <a:br>
              <a:rPr sz="4800"/>
            </a:br>
            <a:r>
              <a:rPr b="0" lang="es-ES" sz="4800" spc="-1" strike="noStrike">
                <a:solidFill>
                  <a:srgbClr val="420000"/>
                </a:solidFill>
                <a:latin typeface="Arial Narrow"/>
              </a:rPr>
              <a:t>de tiempo real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geniería de Tele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s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770520" y="4484520"/>
            <a:ext cx="2373480" cy="23734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Información asignatur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partamento de Informátic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Área de Arquitectura y Tecnología de Comp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uatrimestral (Febrero – Juni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6 créditos (3 teoría + 3 práctica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2 horas teoría + 2 horas práctic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1 grupo de teor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1 grupo de práctic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Profesor</a:t>
            </a:r>
            <a:r>
              <a:rPr b="0" lang="es-ES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ván Peteira Ot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utorías: E-mail antes de acu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itos 2.6.16 (2ª planta. Módulo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léfono 98 518 25 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peteira@uniovi.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Horario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o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ác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3618" b="0"/>
          <a:stretch/>
        </p:blipFill>
        <p:spPr>
          <a:xfrm>
            <a:off x="1476360" y="2674800"/>
            <a:ext cx="5832360" cy="1330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476360" y="4797360"/>
            <a:ext cx="5616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Evaluación</a:t>
            </a: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	</a:t>
            </a: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(I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diante entrega periódica de prác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bitualmente 4/5 prác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fecha de entrega es INAMOVIBLE (salvo circunstancia espec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diante presentación de todas las prácticas y/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pliaciones o nuevas prácti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 convocatorias oficiales con defensa de las mis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hay examen te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Evaluación</a:t>
            </a: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	</a:t>
            </a: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(y II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cada práctica se suele entregar una memoria y el código de dicha práctica. La nota obtenida en cada práctica será una nota numér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práctica consta de una serie de requisitos mínimos que hay que cumplir para aprobar esa práctica. En este caso, si todo es correcto, la nota será de 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práctica conllevará una serie de ampliaciones opcionales que en caso de ser realizadas de forma correcta determinarán la nota final en esa práctica [7..10]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alguna práctica no cumple con los requisitos mínimos, el alumno/a dispondrá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a semana desde la entrega de la práctica por parte del profesor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hacer los cambios necesarios y poder aprobar así la práctica. En este caso la nota máxima a la que puede aspirar el alumno es 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nota final, será la media aritmética del conjunto de las práct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Material de teoría y práctica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ponibles transparencias de clase en la web. Se dejarán con anterioridad para poder asistir con ellas a cl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uiones de prácticas disponible en We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Necesario dejarlo en fotocopiado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f0ff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Información (I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atc.uniovi.es/teleco/5sdtr/index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www.atc.uniovi.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↳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Doc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↳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Ingeniería de Telecomun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↳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istemas Distribuidos y de T.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Arial Narrow"/>
              </a:rPr>
              <a:t>Información (y II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www.atc.uniovi.es/personal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www.atc.uniovi.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↳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9:25:54Z</dcterms:created>
  <dc:creator>Iván Peteira Otero</dc:creator>
  <dc:description/>
  <dc:language>en-US</dc:language>
  <cp:lastModifiedBy>Iván Peteira</cp:lastModifiedBy>
  <dcterms:modified xsi:type="dcterms:W3CDTF">2008-10-01T18:51:27Z</dcterms:modified>
  <cp:revision>27</cp:revision>
  <dc:subject/>
  <dc:title>Presentación SDTR</dc:title>
</cp:coreProperties>
</file>